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680-6535-4531-99DC-43618B63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357-8437-4908-98E5-49BF3C8E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644-057D-4EDA-92EE-8C699C6A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6AA-3A9B-48A5-918E-8986414E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D74-3E53-4D1B-B38C-E72A6CE7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278-6AE7-4770-8061-37FE55E7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375-4124-4740-A9F0-37E6A848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697-FEDF-490C-8C9A-671C4E22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FA8-06F5-41F2-99B6-5F06D21C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6DC-134C-4ED7-81B2-1422A7F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D97-8444-4E32-9C3A-F694337C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CD3-09F1-420E-899B-BA66E1A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CBFE-F18F-4523-8543-4B0ECF355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271440"/>
            <a:ext cx="6276960" cy="623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708280" y="1612800"/>
          <a:ext cx="3586320" cy="34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8280" y="1612800"/>
                    <a:ext cx="358632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flipH="1">
            <a:off x="4743360" y="865080"/>
            <a:ext cx="3672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41880" y="903240"/>
            <a:ext cx="201600" cy="9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943520" y="930240"/>
            <a:ext cx="26352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6160" y="879480"/>
            <a:ext cx="541080" cy="10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406840" y="892080"/>
            <a:ext cx="77940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619240" y="798480"/>
            <a:ext cx="128268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149880" y="1273320"/>
            <a:ext cx="107784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97680" y="1754280"/>
            <a:ext cx="1185840" cy="83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073560" y="2244600"/>
            <a:ext cx="106668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82920" y="2674800"/>
            <a:ext cx="101916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130440" y="3143160"/>
            <a:ext cx="878040" cy="1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6167160" y="3500280"/>
            <a:ext cx="88740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154200" y="3757680"/>
            <a:ext cx="8528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6121080" y="3966840"/>
            <a:ext cx="934920" cy="58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107040" y="4163760"/>
            <a:ext cx="87624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073560" y="4408200"/>
            <a:ext cx="912600" cy="10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606640" y="4901760"/>
            <a:ext cx="117468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394240" y="4898520"/>
            <a:ext cx="80496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173560" y="4925880"/>
            <a:ext cx="51768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4941360" y="4913280"/>
            <a:ext cx="27468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695480" y="4950000"/>
            <a:ext cx="14292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08480" y="4951080"/>
            <a:ext cx="157320" cy="10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95840" y="4960440"/>
            <a:ext cx="431640" cy="87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68520" y="4950000"/>
            <a:ext cx="63360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89360" y="4962600"/>
            <a:ext cx="89676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30280" y="4938840"/>
            <a:ext cx="118620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60640" y="917640"/>
            <a:ext cx="393840" cy="9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79680" y="884160"/>
            <a:ext cx="681120" cy="9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09880" y="798480"/>
            <a:ext cx="851040" cy="10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41720" y="811080"/>
            <a:ext cx="1269720" cy="10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2120" y="1262160"/>
            <a:ext cx="1066680" cy="10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22480" y="1763640"/>
            <a:ext cx="99360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70000" y="2171880"/>
            <a:ext cx="935280" cy="70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62080" y="2735280"/>
            <a:ext cx="99396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93760" y="3119400"/>
            <a:ext cx="9352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075040" y="3500280"/>
            <a:ext cx="95868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087640" y="3755520"/>
            <a:ext cx="9698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097000" y="3979440"/>
            <a:ext cx="93528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050920" y="4249440"/>
            <a:ext cx="94788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085840" y="4457880"/>
            <a:ext cx="970200" cy="10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4320" y="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9920" y="6553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81280" y="6553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6340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2528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752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09040" y="2318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168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244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53560" y="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81200" y="28116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3560" y="6340320"/>
            <a:ext cx="6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t.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22800" y="6340320"/>
            <a:ext cx="55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dd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93480" y="1066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3480" y="156672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4200" y="20430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42080" y="2454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93480" y="29415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92760" y="3429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92760" y="39164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92760" y="437184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92400" y="48402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92400" y="530208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2400" y="581832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8640" y="10447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9000" y="154476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9720" y="202104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240" y="2432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8640" y="29192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8280" y="34066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8280" y="3894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8280" y="43498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7920" y="48182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P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7920" y="5280120"/>
            <a:ext cx="107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R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7560" y="579600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-L-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0" y="0"/>
            <a:ext cx="12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2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5:04:31Z</dcterms:created>
  <dc:creator>cal2d</dc:creator>
  <dc:description/>
  <dc:language>en-US</dc:language>
  <cp:lastModifiedBy>Brandon</cp:lastModifiedBy>
  <dcterms:modified xsi:type="dcterms:W3CDTF">2006-06-06T18:21:06Z</dcterms:modified>
  <cp:revision>18</cp:revision>
  <dc:subject/>
  <dc:title>PowerPoint Presentation</dc:title>
</cp:coreProperties>
</file>